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B59C46-C8A4-4685-BA97-2D199ED6454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BE9A82-0279-4E1E-AF01-5A776DE0336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B762E3-9066-4F30-8EAE-0C13094FF07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49A7F5-5A7B-490C-BBA7-4CD561405D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C5DD3B-39A3-472D-A35B-42BAF244DEC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2774F2-5427-42D6-ADE7-1BFEFB8956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783AA5-005A-4846-969A-A9F61C8A253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D51FA5-ACDF-454B-8BB1-9D6F33AB0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A37AE9-5C5B-407D-801B-2C8B549F76A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8D7B06-2CA7-4541-8F68-2620AE29F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D4AADA-A58C-4130-8333-9C280EB6A2C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DD1E3-2939-43EF-83A0-FF61C6FC6E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EC9A6A-D1AF-4789-8EC4-C22141BDD76C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AF1EC0-9600-47B8-9432-5184239D9E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6F23B1-FADA-4404-95DA-821BD39A04BE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71BA1B-5968-408B-80F5-592E6BEE9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436D90-E901-4516-9746-2161206E6087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F602E8-9E5B-4A7C-82A0-1D57E6CC19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98FDB1-828D-495A-B279-35375E7661F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6B1416-C7B6-48B2-A41E-ABD17F08D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8632B5-513D-468A-B2DF-2C97963777A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BAD7FA-F00B-4BB8-942F-813B8DE434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BABC51-F66B-426D-B176-275C2F26C5C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FAD199-BE03-4E1F-949F-BEAA339162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8E0C72-B5E5-4586-B6A1-8490476239B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BF2212-D772-447A-9F5C-8D45679757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54967-A4A5-4BD8-907F-8183089B798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380399-0788-4591-A103-D7EE86920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893085-DB71-449E-B722-EB526C071B2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D020C7-A79C-45DA-B0F5-BDACF1A9A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704704-3DD6-4128-8740-E1D93CFD5D3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118358-86AF-4197-8ABE-543FCE14F9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52856A-3ADE-477C-A28B-47897FE0545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CBC936-E24F-40C8-966D-9A85B89DBB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B1320C-B9F2-4AC3-BF9E-FFDE5095F1AB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4C32A-4A68-47CE-8F99-3143CA7B6E8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02C61E-99D5-4DCD-8454-3FD264DBC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7C84FE-62F9-4D04-973B-9F519FFB10A0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B030EA-C3C5-4F21-A979-4F20A3DD9D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71611D-782C-4D5A-9F04-0BBB6DBEC1A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51B2A1-9F24-4637-9549-42781D5AD0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32D33F-38DE-41D5-A356-EF04186C778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C286D7-87C5-42F8-933A-A57CFA2013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5A509C-39BE-49C1-90B7-A726DA5673A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8DECD9-3182-4BE2-AC4F-FE94A438CA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3C82BC-A723-479B-B27A-E997C514164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8E5599-C97F-43D3-85DC-F39FAF843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09C6AA-258C-4266-A1E8-2E62632A17A9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2380DA-4DB0-470B-A761-DAD0C94EEB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020C-82AE-4A59-B0FD-646C7B2D2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36A3-32A3-4B39-968B-962C0E00EE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4A5FC-0DE9-4BE7-BA84-72E99D113D4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57DC-46CA-44B7-BA24-41DC56A5CE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FB54-F701-405A-97AC-55F5DA4BD1A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5578-A7D1-49F4-B0D7-A1860166BE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6844E-3FC0-411B-B223-09B5DEA7EF0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5932-AE6E-4CC6-9336-E00F0F584A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4030-8C3F-4ED6-9BFF-0CD2EECDC95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3550-980D-4CB2-A316-87F5E502E26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198C-E6F5-4E4E-BDF2-BDAB6DD57BC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9D51B-7268-4BE8-9231-10CAF05D1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82D7-DB81-4497-81AC-C3F66748B0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33F1B3-1FA9-422C-8158-75EB931938F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4B745-EAF8-4BE3-9909-D5DD3E77B7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7E371-66DB-4C59-B5D7-B28C87E1D1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95435-7CE5-4108-99E4-F9B42A9F3BF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87584-80F4-4426-B605-136364CCF09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2F984-BBF6-4FB1-9FE0-2779F083B6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12E36-A4D8-4DB7-9222-F5E67B0E83C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4EF81-B0C4-4BF4-818A-649C5A29CBD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765DA-B674-4D7E-9953-EE79742B6D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A715D-EC49-4C72-90EC-1BAFCFED8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08CB-8BA0-4561-8DD2-6AC35C345BA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835E8-B8F2-4BB4-9B5D-6E6A5864563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5444A-AF29-4538-AAB4-7CEBAA1DE21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795DA-6C5B-4DD9-B99A-FC9CE1C6FA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52E59-7663-4142-A033-6C37D1FA327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2BD40-BA4D-4D90-8952-584D3EF7C31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BD78D-C8FF-4CEE-936D-A98FE02CD34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BECF94-DE2E-4937-BD57-752B6E2085E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0D461-99DD-492E-8E27-09B29B9891D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1D86D-9E77-465A-886A-3FE069873D3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2114D-3412-4D27-B0FD-C6B03167D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0A73-FDE0-4F21-870B-819C7D3BC7A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C0BBD-70D1-4EF0-AD41-74E1E9CD812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68974-82D3-4DF5-AED5-4697AC9C35B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126CF-429F-48FD-968D-4448F91F46A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68B4-1CD1-4B66-84CA-383AAE099B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98646-D1BE-4E2A-921E-9C867DB303C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36D6-ACA7-48F3-973F-FD467B70FFF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9FD6-2AF9-428F-A928-22734283623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5D1E3-C207-4920-B69D-E930BEF9272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C08D-DC4B-41FA-BB9E-43A078AABB6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BDA3-CFDB-4E04-83BC-A34E94FE38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F473-A49E-431B-B8C7-A3760C2E55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2136B-2FBC-4B88-896C-209DFDCF8A1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2704-967D-4056-A739-013B49C23E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BC90-FDDD-4D05-AD2E-C8ECF9155F1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9A65-A8FD-4288-A075-8F807DB0EBF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8298-2D24-415F-BFBB-8335336F0A9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CB5CE-BA33-493C-914A-B5C3AC037A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56D89-FDDE-460D-9E68-D0D56B5D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3FB96-C179-4BB8-9EFF-EC22DA3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D65F4-0544-4412-AF86-DBCF0243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CCA7E-4B17-4AB0-B426-90006CBF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8807-4B4C-42A7-89EF-FB7E38B857A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46DE0-ACDC-44FC-96A9-8A3DCB99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9A3D2-E023-49AA-9634-A840EB69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6B5DA-64B0-4AC0-8009-1851AE0A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07963-69FB-46D5-8D76-2D23AA9F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3E582-E5E3-4EA8-B5D3-7490B28D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5583E-1F12-4801-960B-41E02704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24BEE-8E76-428F-A21D-0D23B86ADA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3668-4FAC-4223-AA33-C154E748C7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8E95-3C67-4C7D-B774-21262C0B16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012A-DD28-48DF-A714-4D77E91E78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AF2B-23B6-4800-B73C-4486DF68C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EDE9-968B-44D5-A39A-BAC8BA094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9E2F-56F7-4E32-8FE4-C3E3DEB070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267C-8525-4949-9FA1-D2D14AC53A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8C20-3D23-454D-B531-40844D948B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16FD-894F-4F2C-B510-C68C117AD3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A706-BD95-409F-83ED-464F9FD19E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598-8D79-47FD-8599-0814805CA9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5AD-0847-4E15-9936-1116F33DDF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AC0-1355-4F30-A6DD-922A427B6F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F48-E9F9-43D0-8EB0-221F676EED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5FD-294B-4E79-91A5-E3FBDB571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EB54-0CAC-47DF-AB37-DDA555FF0B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7C1-28BD-43CF-8254-F3F2B915CB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227-8992-46D0-B390-E84ADE26F1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E1B-FF7A-4B35-9A0B-D616EC7B84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CEC-CB33-4328-AC49-E22A43696B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EC6-CB0F-4188-B853-DFFEB47B76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0E3-95CB-4FE0-AD48-8EA18029A9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F9F-1B8B-4E39-A5B5-F0B768AD4B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64533-2F9E-47A3-9407-255ABED46C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0805B-46F9-41CA-B86E-0E083631C0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0738B-0DC4-4565-A63A-E1ACC638B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E0FA-A544-4EAC-8459-6BF362D96A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4DB7F-29A5-40D5-BE93-8ACC578040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D3AD8-C60F-4F33-88E7-5286788A66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0A094-F2AA-4A84-B9A9-B9F7534F5A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0F572-AED3-40C7-A416-81FC14EBF8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A6C4D-392A-46D6-9D5F-BB57F61F4C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BAC60-13D7-4C40-B52E-983E7AB805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3D75F-E93D-4FA6-A410-4BC502D6D9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0DF6B-CA4E-4F20-A12F-37CBEA1FA0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C2ABC-8984-4D8C-850A-C6D5D41B22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BFA5B-AB02-4570-8402-B56C40509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E9A9-30E1-47AB-9982-247881288E3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65FD4-C786-4930-AB1F-D5651DBFDBA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D582A-44DB-4404-987C-7393704724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55153-6634-4A49-84B6-CAE34B1F75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E6FC4-22AA-4A58-8204-DD962E808D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E3DC5-DEC1-4AAC-84A1-7E6351EECA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D9286-DAF6-42C1-ADF7-43D4453824A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3433E-685A-4D5C-A118-AC7227AF5F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194B2-F007-42DD-8C2B-808A312AC1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8633D-35E3-4DDB-8E95-3C28156978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05E22-3F49-41D6-B118-9ED2FC2F2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C6CD-01F1-4C69-B13C-E508A8EA879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7CC34-BAF8-4CC1-AD61-1386CB2968A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3DF2-177F-4B3F-87D2-89E1DA6C3C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967A-393E-49EA-BCFF-26D30BB70C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DCE4-4767-4249-884E-8FA17198659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180-2166-475A-888E-95F331A8A2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533-C972-4FA7-9CF0-84FBF16A3F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29D9-011A-4F9C-A767-D29A9A28918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97D9-4FD7-4C74-B74D-A3BCFD4DFAA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6D75-3020-4AD9-A1B2-91E9669AF9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0AE3-8735-4273-A9CF-1B52FB0CF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A076-2500-4AD3-83E3-1D3AD90A1B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6753-69EB-4B00-B307-AAA4DB0313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F966-4D27-4D0A-8010-17731D8627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B39E-03BC-4557-A981-48DE5F25E7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19138-D0B5-4C02-96DD-DFFF62712A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FC91B-4248-446A-B58C-4EC164FDCB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9E895-7127-49EA-8327-B446B35CF8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52563-92F2-46E9-A2E1-0A41722CDC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C69A9-16C1-4B5D-B735-D9264A7EFB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4524A-D479-49E2-9B1F-7A769106EDF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D24FC-9A77-4425-96F1-F0B5BAE4B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9FB4-6112-482B-BD92-76AEF3009F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AFFA8-BE21-49F1-9AAE-27BE2831C7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A298E-1DF7-4C25-97C1-CD3B3CB17A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AF95D-C1F0-4A47-B0A0-CE951944383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A781D-6704-488F-BBB3-DA9B1412FC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1D46C9-3AB1-479E-8D90-FC8F29173D4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B1B59-996F-44BC-9C01-3F5D81B5A2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23AC7-109A-472D-B17B-D2969E76CC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A94A0-C652-4C9B-A4D1-EB84828814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F945D-B678-48F0-89F9-6FACF3EFE85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6B495-9D25-408B-A486-3733F04D7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D065-CE05-4FC6-B4D4-CA5AC0ADEBF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65DA2-100A-4651-BA8E-0A92EE95C3B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95377-6EC0-4D6C-A1D6-B50FCA7D24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104E4-88DC-4E7A-821A-23B69A8F95D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D757F-D0C0-44B0-87F0-08CCCA5591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534A8-FD91-4E61-9FD3-EDE4040C21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A9561-353B-4907-9002-BE978A45753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439F2-4EF2-41A5-AD44-D84795480F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994C-183D-48D5-BAA0-038F239FC6F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BAB8-FCB0-4287-B67A-FA73D5A9FD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76D0-DDA0-4FF8-A176-0141A969A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3BDFB3-2283-4757-BB95-1E8CB70D761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D2C5E8-5A5D-417C-B8AC-3A98FC5DE8C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2740A9-C70A-4838-9003-22007FD24F8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24E535-FBB6-46CF-B548-E120E88AD37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17EF9B-9689-40FC-A80B-1040A688E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4226FC-E562-4B24-A550-281A43303D9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4F92AB-5F56-436A-B268-C98D8C6F350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F2BFCE-3FDE-42CA-A737-2EEEB31C3D9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A48876-2D15-4082-8696-AC33670AB76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6CCB20-9DB3-4B29-ABB3-0FD723298DC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091D5D-7508-4641-B043-66830C4E98F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9FBAD3-249A-4B0E-82B5-6278F11CF51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969E68-91C7-4F23-B260-F899F597DF8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-Αικατερίνη Μαντά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"/>
          <p:cNvSpPr/>
          <p:nvPr/>
        </p:nvSpPr>
        <p:spPr>
          <a:xfrm>
            <a:off x="39528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Rectangle 8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1"/>
          <p:cNvSpPr/>
          <p:nvPr/>
        </p:nvSpPr>
        <p:spPr>
          <a:xfrm>
            <a:off x="395280" y="1125360"/>
            <a:ext cx="835344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1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863640" y="1392120"/>
            <a:ext cx="7596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6" name="Rectangle 8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0"/>
          <p:cNvSpPr/>
          <p:nvPr/>
        </p:nvSpPr>
        <p:spPr>
          <a:xfrm>
            <a:off x="1332000" y="46753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9" name="Rectangle 8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1"/>
          <p:cNvSpPr/>
          <p:nvPr/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1"/>
          <p:cNvSpPr/>
          <p:nvPr/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7" name="Rectangle 8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1"/>
          <p:cNvSpPr/>
          <p:nvPr/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"/>
          <p:cNvSpPr/>
          <p:nvPr/>
        </p:nvSpPr>
        <p:spPr>
          <a:xfrm>
            <a:off x="17928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1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3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4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5"/>
          <p:cNvSpPr/>
          <p:nvPr/>
        </p:nvSpPr>
        <p:spPr>
          <a:xfrm>
            <a:off x="61128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Κατσαντώνη Σπυριδούλα-Μαντά Αικατερίν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1"/>
          <p:cNvSpPr/>
          <p:nvPr/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1"/>
          <p:cNvSpPr/>
          <p:nvPr/>
        </p:nvSpPr>
        <p:spPr>
          <a:xfrm>
            <a:off x="104292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1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1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20:35Z</dcterms:modified>
  <cp:revision>2</cp:revision>
  <dc:subject/>
  <dc:title/>
</cp:coreProperties>
</file>